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4772D-15CB-4466-8655-F86C05CA3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4DA4-9EFA-46C0-B59A-320D977C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8B47-3A57-4E36-9D05-2BE0B17B3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8FC8B-93B8-424C-996B-1A7B29600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70E9-BEDD-44CC-8F33-CA77DCA5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C802-B2F2-4A15-99A0-63D7EB8C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DD6A2-E7FE-4077-8B89-39699EF8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9471C-5260-49B5-B4AC-6E0D8DB4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9AF4-2F48-4D9F-90E7-EB5674E5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742A-701C-4DAB-BFD3-FC0A8372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9102-DF79-4F49-8361-951C1CB7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7078-3178-4754-B9E0-7FE00E5C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1185-6540-4139-886F-DEC2E3EDB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g5.ranchoweb.com/images/seeker/socialist_communist_symbol.jpg&amp;imgrefurl=http://devildog6771.wordpress.com/2007/03/30/how-americas-allies-see-us-after-congress-told-the-president-to-take-a-hike/&amp;usg=__7WRhWJbl9ZzwjaKsc3ZAbwF6LgE=&amp;h=398&amp;w=300&amp;sz=10&amp;hl=en&amp;start=2&amp;tbnid=9a9KOYhp8jzEwM:&amp;tbnh=124&amp;tbnw=93&amp;prev=/images%3Fq%3Dsocialist%2Bflag%2Bof%2Bfrance%26hl%3Den%26rlz%3D1T4GWYA_enUS310US310%26sa%3D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ok at Fran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er Yousuf, Gordon Holley, 6</a:t>
            </a:r>
            <a:r>
              <a:rPr b="0" lang="en-US" sz="3200" spc="-1" strike="noStrike" baseline="30000">
                <a:solidFill>
                  <a:srgbClr val="000000"/>
                </a:solidFill>
                <a:latin typeface="Arial"/>
              </a:rPr>
              <a:t>th</a:t>
            </a:r>
            <a:r>
              <a:rPr b="0" lang="en-US" sz="3200" spc="-1" strike="noStrike">
                <a:solidFill>
                  <a:srgbClr val="000000"/>
                </a:solidFill>
                <a:latin typeface="Arial"/>
              </a:rPr>
              <a:t> grade geography, Randolph School</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 in Fr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211,207 square m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largest countries in western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53360" cy="6867360"/>
          </a:xfrm>
          <a:prstGeom prst="rect">
            <a:avLst/>
          </a:prstGeom>
          <a:ln w="0">
            <a:noFill/>
          </a:ln>
        </p:spPr>
      </p:pic>
      <p:sp>
        <p:nvSpPr>
          <p:cNvPr id="46" name="PlaceHolder 1"/>
          <p:cNvSpPr>
            <a:spLocks noGrp="1"/>
          </p:cNvSpPr>
          <p:nvPr>
            <p:ph type="title"/>
          </p:nvPr>
        </p:nvSpPr>
        <p:spPr>
          <a:xfrm>
            <a:off x="529920" y="322200"/>
            <a:ext cx="80802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ways in France</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The Rh</a:t>
            </a:r>
            <a:r>
              <a:rPr b="0" lang="en-US" sz="2800" spc="-1" strike="noStrike">
                <a:solidFill>
                  <a:srgbClr val="ffffff"/>
                </a:solidFill>
                <a:latin typeface="Arial"/>
                <a:ea typeface="Arial"/>
              </a:rPr>
              <a:t>ône River starts in Switzerland and flows southwest through Lyon, France and empties into the Mediterranean Se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Loire River is the longest river in France, 625 miles. It flows north towards Paris but arcs at Orléans and goes through Nantes and flows into the Bay of Bisca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000000"/>
                </a:solidFill>
                <a:latin typeface="Arial"/>
              </a:rPr>
              <a:t>The Seine River is a 482 mile long river that flows through the heart of Par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ains of France</a:t>
            </a:r>
            <a:endParaRPr b="0" lang="en-US" sz="4400" spc="-1" strike="noStrike">
              <a:solidFill>
                <a:srgbClr val="000000"/>
              </a:solidFill>
              <a:latin typeface="Arial"/>
            </a:endParaRPr>
          </a:p>
        </p:txBody>
      </p:sp>
      <p:sp>
        <p:nvSpPr>
          <p:cNvPr id="49" name="PlaceHolder 2"/>
          <p:cNvSpPr>
            <a:spLocks noGrp="1"/>
          </p:cNvSpPr>
          <p:nvPr>
            <p:ph/>
          </p:nvPr>
        </p:nvSpPr>
        <p:spPr>
          <a:xfrm>
            <a:off x="304920" y="2057040"/>
            <a:ext cx="36576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ee major pla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lps, and Jura mounta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enees mountains to the southw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etween are the Central highlands</a:t>
            </a:r>
            <a:endParaRPr b="0" lang="en-US" sz="2800" spc="-1" strike="noStrike">
              <a:solidFill>
                <a:srgbClr val="000000"/>
              </a:solidFill>
              <a:latin typeface="Arial"/>
            </a:endParaRPr>
          </a:p>
        </p:txBody>
      </p:sp>
      <p:pic>
        <p:nvPicPr>
          <p:cNvPr id="50" name="" descr=""/>
          <p:cNvPicPr/>
          <p:nvPr/>
        </p:nvPicPr>
        <p:blipFill>
          <a:blip r:embed="rId1"/>
          <a:stretch/>
        </p:blipFill>
        <p:spPr>
          <a:xfrm>
            <a:off x="4114800" y="1447920"/>
            <a:ext cx="4581360" cy="4857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in France</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government is based on 2 legislative cha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is elected for 7 year terms by popular vote as head of the st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e minister is chosen by the president as head of the government.</a:t>
            </a:r>
            <a:endParaRPr b="0" lang="en-US" sz="2400" spc="-1" strike="noStrike">
              <a:solidFill>
                <a:srgbClr val="000000"/>
              </a:solidFill>
              <a:latin typeface="Arial"/>
            </a:endParaRPr>
          </a:p>
        </p:txBody>
      </p:sp>
      <p:pic>
        <p:nvPicPr>
          <p:cNvPr id="53" name="" descr=""/>
          <p:cNvPicPr/>
          <p:nvPr/>
        </p:nvPicPr>
        <p:blipFill>
          <a:blip r:embed="rId1"/>
          <a:stretch/>
        </p:blipFill>
        <p:spPr>
          <a:xfrm>
            <a:off x="4994280" y="1981080"/>
            <a:ext cx="345744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 of Franc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religion in France is roman catholic, but there are other religions such</a:t>
            </a:r>
            <a:r>
              <a:rPr b="0" lang="en-US" sz="3200" spc="-1" strike="noStrike">
                <a:solidFill>
                  <a:srgbClr val="ffffff"/>
                </a:solidFill>
                <a:latin typeface="Arial"/>
              </a:rPr>
              <a:t> as Muslim, protestant, and Jewis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most every region of France has a special festival unique to that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fac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s a birth rate of 12.73 in the 2008 estimate and a death rate of 8.48 in the 2008 es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s a life expectancy of 75.31 years for males and 82.46 years for females in the 2008 estim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155520" y="46080"/>
            <a:ext cx="8988480" cy="6811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in Franc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re packed in smal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unemploymen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er people on fixed incomes are in financial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fashioned farms too poor to modernize are suffering the ec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s for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turning to soc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icture a country:  France</a:t>
            </a:r>
            <a:r>
              <a:rPr b="0" lang="en-US" sz="2800" spc="-1" strike="noStrike">
                <a:solidFill>
                  <a:srgbClr val="000000"/>
                </a:solidFill>
                <a:latin typeface="Arial"/>
              </a:rPr>
              <a:t> by Henry Pluckrose pp.:6, 8, 2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uide to France</a:t>
            </a:r>
            <a:r>
              <a:rPr b="0" lang="en-US" sz="2800" spc="-1" strike="noStrike">
                <a:solidFill>
                  <a:srgbClr val="000000"/>
                </a:solidFill>
                <a:latin typeface="Arial"/>
              </a:rPr>
              <a:t> by Highlights pp.: 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ople and places,  Denmark to Hungary</a:t>
            </a:r>
            <a:r>
              <a:rPr b="0" lang="en-US" sz="2800" spc="-1" strike="noStrike">
                <a:solidFill>
                  <a:srgbClr val="000000"/>
                </a:solidFill>
                <a:latin typeface="Arial"/>
              </a:rPr>
              <a:t> pp.: 1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cia.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discoverfrance.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answers.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mages.google.com/imghp?hl=en&amp;tab=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8:34:11Z</dcterms:created>
  <dc:creator>omeryousuf</dc:creator>
  <dc:description/>
  <dc:language>en-US</dc:language>
  <cp:lastModifiedBy>Clay Holley</cp:lastModifiedBy>
  <dcterms:modified xsi:type="dcterms:W3CDTF">2009-02-12T00:45:05Z</dcterms:modified>
  <cp:revision>9</cp:revision>
  <dc:subject/>
  <dc:title>A Look at France</dc:title>
</cp:coreProperties>
</file>